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4594-18BB-45D7-85AC-B4BAEAE44F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ion of acceleration due to gravity vec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ion of acceleration due to gravity v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. A baseball tossed up in the air, at the top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. A baseball tossed up in the air, at the top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A baseball tossed up in the air, right before it strikes the grou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A baseball tossed up in the air, right before it strikes the gr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A baseball tossed up in the air, right before it strikes the grou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A baseball tossed up in the air, right before it strikes the gr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. A football is thrown at a 450 angle, at the top of its 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. A football is thrown at a 450 angle, at the top of its p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. A football is thrown at a 450 angle, at the top of its 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. A football is thrown at a 450 angle, at the top of its p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. A cannonball rolling off a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. A cannonball rolling off a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. A cannonball rolling off a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. A cannonball rolling off a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n you summarize about the direction of the vector representing acceleration of all these objec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other exampl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you summarize about the direction of the vector representing acceleration of all these obje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other examp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ck pebble football and all have different masses. How does this affect the magnitude of the acceleration vecto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Earth, what would its magnitude b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ck pebble football and all have different masses. How does this affect the magnitude of the acceleration vec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Earth, what would its magnitude 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due to gravity is a vector quant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 due to gravity is a vector quant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ctors can be represented by an arrow to show magnitude and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s can be represented by an arrow to show magnitude and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your whiteboards, draw the direction of acceleration for the following obj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shed line represents its p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not drawn to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hiteboards, draw the direction of acceleration for the following ob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shed line represents it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not drawn to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. A pebble dropped from a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. A pebble dropped from a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. A pebble dropped from a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. A pebble dropped from a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. A baseball tossed up in the air, halfway up the path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. A baseball tossed up in the air, halfway up the path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. A baseball tossed up in the air, halfway up the pa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. A baseball tossed up in the air, halfway up the pa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. A baseball tossed up in the air, at the top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. A baseball tossed up in the air, at the top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19C2-F3AB-4D34-88C1-C5E79ABDC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F4E1-3377-44D3-B57B-4007895A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483B-E9D8-45E1-AA47-F3ACE8101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4BA7-3911-477E-8BD9-024D14D45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D357-232F-42F5-943E-7BF600DC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B6E0-1DB5-417B-98FA-671DD665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1318-790A-45F1-A080-C9DF193A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37AA-2EF8-4505-AC6B-73B1CE95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5E4A-38E2-4E38-87C8-06A71B68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3300-F5AA-4F34-BC75-98D5A4AD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D2C5-1F3D-4A9A-AAD1-6A906714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AAEE-E0B5-4299-B527-FE5D40CB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9544-37F4-4977-B4E1-90E5B9858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 of acceleration due to gravity 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3. A baseball tossed up in the air, at the top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"/>
          <p:cNvSpPr/>
          <p:nvPr/>
        </p:nvSpPr>
        <p:spPr>
          <a:xfrm>
            <a:off x="2666880" y="19051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2666880" y="1981080"/>
            <a:ext cx="228600" cy="3886200"/>
          </a:xfrm>
          <a:custGeom>
            <a:avLst/>
            <a:gdLst/>
            <a:ahLst/>
            <a:rect l="l" t="t" r="r" b="b"/>
            <a:pathLst>
              <a:path w="144" h="2448">
                <a:moveTo>
                  <a:pt x="0" y="2448"/>
                </a:moveTo>
                <a:cubicBezTo>
                  <a:pt x="12" y="1224"/>
                  <a:pt x="24" y="0"/>
                  <a:pt x="48" y="0"/>
                </a:cubicBezTo>
                <a:cubicBezTo>
                  <a:pt x="72" y="0"/>
                  <a:pt x="128" y="2040"/>
                  <a:pt x="144" y="2448"/>
                </a:cubicBezTo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2743200" y="213372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4952880" y="3124080"/>
            <a:ext cx="3962520" cy="1312920"/>
          </a:xfrm>
          <a:prstGeom prst="rect">
            <a:avLst/>
          </a:prstGeom>
          <a:solidFill>
            <a:srgbClr val="fbeffb"/>
          </a:solidFill>
          <a:ln w="9360">
            <a:solidFill>
              <a:srgbClr val="f9e7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baseball tossed up in the air, right before it strikes the grou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4"/>
          <p:cNvSpPr/>
          <p:nvPr/>
        </p:nvSpPr>
        <p:spPr>
          <a:xfrm>
            <a:off x="3200400" y="59436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"/>
          <p:cNvSpPr/>
          <p:nvPr/>
        </p:nvSpPr>
        <p:spPr>
          <a:xfrm>
            <a:off x="2057400" y="6324480"/>
            <a:ext cx="4267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6"/>
          <p:cNvSpPr txBox="1"/>
          <p:nvPr/>
        </p:nvSpPr>
        <p:spPr>
          <a:xfrm>
            <a:off x="5257800" y="2590920"/>
            <a:ext cx="2743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s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0" name="Freeform 7"/>
          <p:cNvSpPr/>
          <p:nvPr/>
        </p:nvSpPr>
        <p:spPr>
          <a:xfrm>
            <a:off x="3124080" y="2133720"/>
            <a:ext cx="228600" cy="4114800"/>
          </a:xfrm>
          <a:custGeom>
            <a:avLst/>
            <a:gdLst/>
            <a:ahLst/>
            <a:rect l="l" t="t" r="r" b="b"/>
            <a:pathLst>
              <a:path w="144" h="2448">
                <a:moveTo>
                  <a:pt x="0" y="2448"/>
                </a:moveTo>
                <a:cubicBezTo>
                  <a:pt x="12" y="1224"/>
                  <a:pt x="24" y="0"/>
                  <a:pt x="48" y="0"/>
                </a:cubicBezTo>
                <a:cubicBezTo>
                  <a:pt x="72" y="0"/>
                  <a:pt x="128" y="2040"/>
                  <a:pt x="144" y="2448"/>
                </a:cubicBezTo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baseball tossed up in the air, right before it strikes the grou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4"/>
          <p:cNvSpPr/>
          <p:nvPr/>
        </p:nvSpPr>
        <p:spPr>
          <a:xfrm>
            <a:off x="3200400" y="59436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2057400" y="6324480"/>
            <a:ext cx="4267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7"/>
          <p:cNvSpPr/>
          <p:nvPr/>
        </p:nvSpPr>
        <p:spPr>
          <a:xfrm>
            <a:off x="3124080" y="2133720"/>
            <a:ext cx="228600" cy="4114800"/>
          </a:xfrm>
          <a:custGeom>
            <a:avLst/>
            <a:gdLst/>
            <a:ahLst/>
            <a:rect l="l" t="t" r="r" b="b"/>
            <a:pathLst>
              <a:path w="144" h="2448">
                <a:moveTo>
                  <a:pt x="0" y="2448"/>
                </a:moveTo>
                <a:cubicBezTo>
                  <a:pt x="12" y="1224"/>
                  <a:pt x="24" y="0"/>
                  <a:pt x="48" y="0"/>
                </a:cubicBezTo>
                <a:cubicBezTo>
                  <a:pt x="72" y="0"/>
                  <a:pt x="128" y="2040"/>
                  <a:pt x="144" y="2448"/>
                </a:cubicBezTo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3352680" y="601992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4952880" y="3124080"/>
            <a:ext cx="3962520" cy="1312920"/>
          </a:xfrm>
          <a:prstGeom prst="rect">
            <a:avLst/>
          </a:prstGeom>
          <a:solidFill>
            <a:srgbClr val="fbeffb"/>
          </a:solidFill>
          <a:ln w="9360">
            <a:solidFill>
              <a:srgbClr val="f9e7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5. A football is thrown at a 45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gle, at the top of its pa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7"/>
          <p:cNvSpPr/>
          <p:nvPr/>
        </p:nvSpPr>
        <p:spPr>
          <a:xfrm>
            <a:off x="1523880" y="2362320"/>
            <a:ext cx="4572000" cy="4064040"/>
          </a:xfrm>
          <a:custGeom>
            <a:avLst/>
            <a:gdLst/>
            <a:ahLst/>
            <a:rect l="l" t="t" r="r" b="b"/>
            <a:pathLst>
              <a:path w="2320" h="2608">
                <a:moveTo>
                  <a:pt x="160" y="2320"/>
                </a:moveTo>
                <a:cubicBezTo>
                  <a:pt x="80" y="2464"/>
                  <a:pt x="0" y="2608"/>
                  <a:pt x="160" y="2224"/>
                </a:cubicBezTo>
                <a:cubicBezTo>
                  <a:pt x="320" y="1840"/>
                  <a:pt x="760" y="0"/>
                  <a:pt x="1120" y="16"/>
                </a:cubicBezTo>
                <a:cubicBezTo>
                  <a:pt x="1480" y="32"/>
                  <a:pt x="1900" y="1176"/>
                  <a:pt x="2320" y="23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8"/>
          <p:cNvSpPr txBox="1"/>
          <p:nvPr/>
        </p:nvSpPr>
        <p:spPr>
          <a:xfrm>
            <a:off x="5257800" y="2590920"/>
            <a:ext cx="2743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s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3" name="Oval 10"/>
          <p:cNvSpPr/>
          <p:nvPr/>
        </p:nvSpPr>
        <p:spPr>
          <a:xfrm flipV="1">
            <a:off x="3505320" y="2285280"/>
            <a:ext cx="380880" cy="2286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5. A football is thrown at a 45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gle, at the top of its pa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4"/>
          <p:cNvSpPr/>
          <p:nvPr/>
        </p:nvSpPr>
        <p:spPr>
          <a:xfrm>
            <a:off x="3429000" y="2133720"/>
            <a:ext cx="457200" cy="15228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3657600" y="2209680"/>
            <a:ext cx="0" cy="838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8"/>
          <p:cNvSpPr/>
          <p:nvPr/>
        </p:nvSpPr>
        <p:spPr>
          <a:xfrm>
            <a:off x="1447920" y="2209680"/>
            <a:ext cx="4572000" cy="4064040"/>
          </a:xfrm>
          <a:custGeom>
            <a:avLst/>
            <a:gdLst/>
            <a:ahLst/>
            <a:rect l="l" t="t" r="r" b="b"/>
            <a:pathLst>
              <a:path w="2320" h="2608">
                <a:moveTo>
                  <a:pt x="160" y="2320"/>
                </a:moveTo>
                <a:cubicBezTo>
                  <a:pt x="80" y="2464"/>
                  <a:pt x="0" y="2608"/>
                  <a:pt x="160" y="2224"/>
                </a:cubicBezTo>
                <a:cubicBezTo>
                  <a:pt x="320" y="1840"/>
                  <a:pt x="760" y="0"/>
                  <a:pt x="1120" y="16"/>
                </a:cubicBezTo>
                <a:cubicBezTo>
                  <a:pt x="1480" y="32"/>
                  <a:pt x="1900" y="1176"/>
                  <a:pt x="2320" y="23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4952880" y="3124080"/>
            <a:ext cx="3962520" cy="1312920"/>
          </a:xfrm>
          <a:prstGeom prst="rect">
            <a:avLst/>
          </a:prstGeom>
          <a:solidFill>
            <a:srgbClr val="fbeffb"/>
          </a:solidFill>
          <a:ln w="9360">
            <a:solidFill>
              <a:srgbClr val="f9e7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6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cannonball rolling off a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7"/>
          <p:cNvSpPr txBox="1"/>
          <p:nvPr/>
        </p:nvSpPr>
        <p:spPr>
          <a:xfrm>
            <a:off x="5257800" y="2590920"/>
            <a:ext cx="2743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s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0" y="38862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9"/>
          <p:cNvSpPr/>
          <p:nvPr/>
        </p:nvSpPr>
        <p:spPr>
          <a:xfrm>
            <a:off x="2209680" y="38862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0"/>
          <p:cNvSpPr/>
          <p:nvPr/>
        </p:nvSpPr>
        <p:spPr>
          <a:xfrm>
            <a:off x="3200400" y="36576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11"/>
          <p:cNvSpPr/>
          <p:nvPr/>
        </p:nvSpPr>
        <p:spPr>
          <a:xfrm>
            <a:off x="2209680" y="3733920"/>
            <a:ext cx="2743200" cy="2133360"/>
          </a:xfrm>
          <a:custGeom>
            <a:avLst/>
            <a:gdLst/>
            <a:ahLst/>
            <a:rect l="l" t="t" r="r" b="b"/>
            <a:pathLst>
              <a:path w="1728" h="1344">
                <a:moveTo>
                  <a:pt x="0" y="48"/>
                </a:moveTo>
                <a:cubicBezTo>
                  <a:pt x="264" y="24"/>
                  <a:pt x="528" y="0"/>
                  <a:pt x="768" y="96"/>
                </a:cubicBezTo>
                <a:cubicBezTo>
                  <a:pt x="1008" y="192"/>
                  <a:pt x="1280" y="416"/>
                  <a:pt x="1440" y="624"/>
                </a:cubicBezTo>
                <a:cubicBezTo>
                  <a:pt x="1600" y="832"/>
                  <a:pt x="1664" y="1088"/>
                  <a:pt x="1728" y="13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2"/>
          <p:cNvSpPr/>
          <p:nvPr/>
        </p:nvSpPr>
        <p:spPr>
          <a:xfrm>
            <a:off x="0" y="3809880"/>
            <a:ext cx="2209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99072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6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cannonball rolling off a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0" y="38862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2209680" y="38862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9"/>
          <p:cNvSpPr/>
          <p:nvPr/>
        </p:nvSpPr>
        <p:spPr>
          <a:xfrm>
            <a:off x="3200400" y="36576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10"/>
          <p:cNvSpPr/>
          <p:nvPr/>
        </p:nvSpPr>
        <p:spPr>
          <a:xfrm>
            <a:off x="2209680" y="3733920"/>
            <a:ext cx="2743200" cy="2133360"/>
          </a:xfrm>
          <a:custGeom>
            <a:avLst/>
            <a:gdLst/>
            <a:ahLst/>
            <a:rect l="l" t="t" r="r" b="b"/>
            <a:pathLst>
              <a:path w="1728" h="1344">
                <a:moveTo>
                  <a:pt x="0" y="48"/>
                </a:moveTo>
                <a:cubicBezTo>
                  <a:pt x="264" y="24"/>
                  <a:pt x="528" y="0"/>
                  <a:pt x="768" y="96"/>
                </a:cubicBezTo>
                <a:cubicBezTo>
                  <a:pt x="1008" y="192"/>
                  <a:pt x="1280" y="416"/>
                  <a:pt x="1440" y="624"/>
                </a:cubicBezTo>
                <a:cubicBezTo>
                  <a:pt x="1600" y="832"/>
                  <a:pt x="1664" y="1088"/>
                  <a:pt x="1728" y="13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1"/>
          <p:cNvSpPr/>
          <p:nvPr/>
        </p:nvSpPr>
        <p:spPr>
          <a:xfrm>
            <a:off x="0" y="3809880"/>
            <a:ext cx="2209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2"/>
          <p:cNvSpPr/>
          <p:nvPr/>
        </p:nvSpPr>
        <p:spPr>
          <a:xfrm>
            <a:off x="3352680" y="396252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4952880" y="3124080"/>
            <a:ext cx="3962520" cy="1312920"/>
          </a:xfrm>
          <a:prstGeom prst="rect">
            <a:avLst/>
          </a:prstGeom>
          <a:solidFill>
            <a:srgbClr val="fbeffb"/>
          </a:solidFill>
          <a:ln w="9360">
            <a:solidFill>
              <a:srgbClr val="f9e7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can you summarize about th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irec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f the vector representing acceleration of all these objec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are other exampl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ck pebble football and all have different masses. How does this affect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gnitu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ele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ct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Earth, what would it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magnitu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solidFill>
            <a:srgbClr val="f9e7f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447920" y="1600200"/>
            <a:ext cx="662940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cceleration due to gravity is a vector quantit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6019560"/>
          </a:xfrm>
          <a:prstGeom prst="rect">
            <a:avLst/>
          </a:prstGeom>
          <a:solidFill>
            <a:srgbClr val="fefeda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ctors can be represented by an arrow to show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agnitud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ir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 flipV="1">
            <a:off x="1523880" y="5334120"/>
            <a:ext cx="2743200" cy="1295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5"/>
          <p:cNvSpPr/>
          <p:nvPr/>
        </p:nvSpPr>
        <p:spPr>
          <a:xfrm flipH="1">
            <a:off x="7391520" y="2590920"/>
            <a:ext cx="914400" cy="1752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2590920" y="1143000"/>
            <a:ext cx="304560" cy="609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n your whiteboards, draw the direction of acceleration for the following objec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dashed line represents its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ot drawn to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pebble dropped from a brid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4"/>
          <p:cNvSpPr/>
          <p:nvPr/>
        </p:nvSpPr>
        <p:spPr>
          <a:xfrm>
            <a:off x="3809880" y="28954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6"/>
          <p:cNvSpPr txBox="1"/>
          <p:nvPr/>
        </p:nvSpPr>
        <p:spPr>
          <a:xfrm>
            <a:off x="5257800" y="2590920"/>
            <a:ext cx="2743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s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1" name="Line 7"/>
          <p:cNvSpPr/>
          <p:nvPr/>
        </p:nvSpPr>
        <p:spPr>
          <a:xfrm>
            <a:off x="3886200" y="3048120"/>
            <a:ext cx="0" cy="28191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. A pebble dropped from a brid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4"/>
          <p:cNvSpPr/>
          <p:nvPr/>
        </p:nvSpPr>
        <p:spPr>
          <a:xfrm>
            <a:off x="3809880" y="28954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>
            <a:off x="3886200" y="297180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8"/>
          <p:cNvSpPr/>
          <p:nvPr/>
        </p:nvSpPr>
        <p:spPr>
          <a:xfrm>
            <a:off x="3886200" y="28954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4952880" y="3124080"/>
            <a:ext cx="3962520" cy="1312920"/>
          </a:xfrm>
          <a:prstGeom prst="rect">
            <a:avLst/>
          </a:prstGeom>
          <a:solidFill>
            <a:srgbClr val="fbeffb"/>
          </a:solidFill>
          <a:ln w="9360">
            <a:solidFill>
              <a:srgbClr val="f9e7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2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baseball tossed up in the air, halfway up the pa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4"/>
          <p:cNvSpPr/>
          <p:nvPr/>
        </p:nvSpPr>
        <p:spPr>
          <a:xfrm>
            <a:off x="2666880" y="40384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6"/>
          <p:cNvSpPr txBox="1"/>
          <p:nvPr/>
        </p:nvSpPr>
        <p:spPr>
          <a:xfrm>
            <a:off x="5257800" y="2590920"/>
            <a:ext cx="2743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s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4" name="Freeform 7"/>
          <p:cNvSpPr/>
          <p:nvPr/>
        </p:nvSpPr>
        <p:spPr>
          <a:xfrm>
            <a:off x="2743200" y="1981080"/>
            <a:ext cx="228600" cy="3886200"/>
          </a:xfrm>
          <a:custGeom>
            <a:avLst/>
            <a:gdLst/>
            <a:ahLst/>
            <a:rect l="l" t="t" r="r" b="b"/>
            <a:pathLst>
              <a:path w="144" h="2448">
                <a:moveTo>
                  <a:pt x="0" y="2448"/>
                </a:moveTo>
                <a:cubicBezTo>
                  <a:pt x="12" y="1224"/>
                  <a:pt x="24" y="0"/>
                  <a:pt x="48" y="0"/>
                </a:cubicBezTo>
                <a:cubicBezTo>
                  <a:pt x="72" y="0"/>
                  <a:pt x="128" y="2040"/>
                  <a:pt x="144" y="2448"/>
                </a:cubicBezTo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2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baseball tossed up in the air, halfway u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at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4"/>
          <p:cNvSpPr/>
          <p:nvPr/>
        </p:nvSpPr>
        <p:spPr>
          <a:xfrm>
            <a:off x="2666880" y="40384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7"/>
          <p:cNvSpPr/>
          <p:nvPr/>
        </p:nvSpPr>
        <p:spPr>
          <a:xfrm>
            <a:off x="2743200" y="1981080"/>
            <a:ext cx="228600" cy="3886200"/>
          </a:xfrm>
          <a:custGeom>
            <a:avLst/>
            <a:gdLst/>
            <a:ahLst/>
            <a:rect l="l" t="t" r="r" b="b"/>
            <a:pathLst>
              <a:path w="144" h="2448">
                <a:moveTo>
                  <a:pt x="0" y="2448"/>
                </a:moveTo>
                <a:cubicBezTo>
                  <a:pt x="12" y="1224"/>
                  <a:pt x="24" y="0"/>
                  <a:pt x="48" y="0"/>
                </a:cubicBezTo>
                <a:cubicBezTo>
                  <a:pt x="72" y="0"/>
                  <a:pt x="128" y="2040"/>
                  <a:pt x="144" y="2448"/>
                </a:cubicBezTo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>
            <a:off x="2743200" y="419112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4952880" y="3124080"/>
            <a:ext cx="3962520" cy="1312920"/>
          </a:xfrm>
          <a:prstGeom prst="rect">
            <a:avLst/>
          </a:prstGeom>
          <a:solidFill>
            <a:srgbClr val="fbeffb"/>
          </a:solidFill>
          <a:ln w="9360">
            <a:solidFill>
              <a:srgbClr val="f9e7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3. A baseball tossed up in the air, at the top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"/>
          <p:cNvSpPr/>
          <p:nvPr/>
        </p:nvSpPr>
        <p:spPr>
          <a:xfrm>
            <a:off x="2666880" y="19051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6"/>
          <p:cNvSpPr txBox="1"/>
          <p:nvPr/>
        </p:nvSpPr>
        <p:spPr>
          <a:xfrm>
            <a:off x="5257800" y="2590920"/>
            <a:ext cx="2743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s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2666880" y="1981080"/>
            <a:ext cx="228600" cy="3886200"/>
          </a:xfrm>
          <a:custGeom>
            <a:avLst/>
            <a:gdLst/>
            <a:ahLst/>
            <a:rect l="l" t="t" r="r" b="b"/>
            <a:pathLst>
              <a:path w="144" h="2448">
                <a:moveTo>
                  <a:pt x="0" y="2448"/>
                </a:moveTo>
                <a:cubicBezTo>
                  <a:pt x="12" y="1224"/>
                  <a:pt x="24" y="0"/>
                  <a:pt x="48" y="0"/>
                </a:cubicBezTo>
                <a:cubicBezTo>
                  <a:pt x="72" y="0"/>
                  <a:pt x="128" y="2040"/>
                  <a:pt x="144" y="2448"/>
                </a:cubicBezTo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7T00:41:26Z</dcterms:created>
  <dc:creator>Home</dc:creator>
  <dc:description/>
  <dc:language>en-US</dc:language>
  <cp:lastModifiedBy>RomaK</cp:lastModifiedBy>
  <dcterms:modified xsi:type="dcterms:W3CDTF">2015-09-03T12:21:28Z</dcterms:modified>
  <cp:revision>5</cp:revision>
  <dc:subject/>
  <dc:title>Direction of acceleration due to gravity</dc:title>
</cp:coreProperties>
</file>